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3EC41-BC2A-4C95-B3AF-B60593507E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3F4A7-3DB9-4950-A1B2-973BE2A3F7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679C8-E0B9-4766-83D6-5B821E2654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DA16E-5900-447F-A400-392C47B568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036C-24D9-476C-BD1B-8AC85A7031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CD23-DB4A-4782-AEFD-F7687EFF91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28AD-EA1C-4FF1-A903-FE9FEB2300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EFAA-F94A-46C7-8717-E76B4262A6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460A-8013-4D9F-A735-B1BD244FC0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1776-71B0-430F-9631-763C92D7F3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D5EA-032A-4C4D-AAC2-C1556DC697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5F1AE-9A8A-4772-81D0-E082DBF8FE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F41F-240C-4ACE-9E90-5CCA14664A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9FA8-367C-459A-8CDE-EEBCF14EA4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238F-BF93-44C5-868B-032529C5C8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FDA7-6774-4834-B677-8D08DF7488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C503-B7C7-43B4-93DC-7F58E0150B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38944-44B2-4364-9F0F-AC8B96AB49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C1316-6E35-4480-AED8-98D99C637F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1B758-7F17-4A25-89AC-87F90ECBE0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931A2-888C-426B-9422-B8E95B54A2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A8C91-8EA4-4B62-AE26-2E6CC2011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FE1B5-4711-4AAC-947F-FF62CFEE1A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E9909-0E8F-4BF7-82A7-4E1032DF04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743880" y="6559560"/>
            <a:ext cx="213336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AE70-67D4-47ED-B0A2-D3519157F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Line 12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55320" y="6585120"/>
            <a:ext cx="601956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Panasonic System Networks Co., Ltd.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3"/>
          </p:nvPr>
        </p:nvSpPr>
        <p:spPr>
          <a:xfrm>
            <a:off x="6743880" y="6559560"/>
            <a:ext cx="213336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F0ED-A0BC-4C3B-835D-8C2C3209F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7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266760" y="6572160"/>
            <a:ext cx="56260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Panasonic System Networks Co., Ltd.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スライド番号プレースホルダー 3"/>
          <p:cNvSpPr/>
          <p:nvPr/>
        </p:nvSpPr>
        <p:spPr>
          <a:xfrm>
            <a:off x="6743880" y="6559560"/>
            <a:ext cx="2133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AB01-1E5E-41CB-A9C6-D79FB287C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フッター プレースホルダー 4"/>
          <p:cNvSpPr/>
          <p:nvPr/>
        </p:nvSpPr>
        <p:spPr>
          <a:xfrm>
            <a:off x="266760" y="6572160"/>
            <a:ext cx="5626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Panasonic System Networks Co., Ltd.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0" y="576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asonic System Networks Co., L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0" y="3645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 3 ,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0" y="40892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.1.0.0.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X-TGP600/HDV1xx/HDV230/HDV330 se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0" y="765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figuration File Check Tool Manu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スライド番号プレースホルダー 3"/>
          <p:cNvSpPr/>
          <p:nvPr/>
        </p:nvSpPr>
        <p:spPr>
          <a:xfrm>
            <a:off x="6743880" y="6559560"/>
            <a:ext cx="2133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B512-14CE-45FE-847C-AC1F933FD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フッター プレースホルダー 4"/>
          <p:cNvSpPr/>
          <p:nvPr/>
        </p:nvSpPr>
        <p:spPr>
          <a:xfrm>
            <a:off x="266760" y="6572160"/>
            <a:ext cx="5626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Panasonic System Networks Co., Ltd.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642960" y="900000"/>
            <a:ext cx="8386920" cy="3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i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u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scribes abou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 file check to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291960" y="431640"/>
            <a:ext cx="49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tract about this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99880" y="1311120"/>
            <a:ext cx="245268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sion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44600" y="1676520"/>
          <a:ext cx="8204040" cy="3133440"/>
        </p:xfrm>
        <a:graphic>
          <a:graphicData uri="http://schemas.openxmlformats.org/drawingml/2006/table">
            <a:tbl>
              <a:tblPr/>
              <a:tblGrid>
                <a:gridCol w="1270080"/>
                <a:gridCol w="1296720"/>
                <a:gridCol w="2125800"/>
                <a:gridCol w="3511440"/>
              </a:tblGrid>
              <a:tr h="304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i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rmware ver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3,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. 1.0.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tial Rele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X-TGP600 (01.000 or la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5,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. 1.0.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ort HDV1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X-TGP600 (01.000 or la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X-HDV1xx (01.000 or la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 19,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. 1.0.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ort HDV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X-TGP600 (01.061 or la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X-HDV1xx (01.064 or la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X-HDV230 (01.013 or la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3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3,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. 1.0.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ort HDV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X-TGP600 (01.098 or la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X-HDV1xx (02.016 or la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X-HDV230 (01.032 or la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X-HDV330 (01.016 or la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 Box 35"/>
          <p:cNvSpPr/>
          <p:nvPr/>
        </p:nvSpPr>
        <p:spPr>
          <a:xfrm>
            <a:off x="328680" y="5137200"/>
            <a:ext cx="84614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e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soft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.NET is registered trademarks or trademarks of Microsoft Corpo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United States and/or other count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soft product screen shot(s) reprinted with permission from Microsoft Corpor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other trademarks identified herein are the property of their respective own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スライド番号プレースホルダー 3"/>
          <p:cNvSpPr/>
          <p:nvPr/>
        </p:nvSpPr>
        <p:spPr>
          <a:xfrm>
            <a:off x="6743880" y="6559560"/>
            <a:ext cx="2133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895C-6E49-4277-8D48-B01098D40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フッター プレースホルダー 4"/>
          <p:cNvSpPr/>
          <p:nvPr/>
        </p:nvSpPr>
        <p:spPr>
          <a:xfrm>
            <a:off x="266760" y="6572160"/>
            <a:ext cx="5626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Panasonic System Networks Co., Ltd.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452600" y="1820880"/>
            <a:ext cx="621036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0200" indent="-3427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to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458640" y="4737240"/>
            <a:ext cx="8393400" cy="13615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N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ja-JP" sz="1600" spc="-1" strike="noStrike">
                <a:solidFill>
                  <a:srgbClr val="ff0000"/>
                </a:solidFill>
                <a:latin typeface="Arial"/>
              </a:rPr>
              <a:t>・ “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crosoft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®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.NET Framework(4.5)” is required for installation and use of this tool. 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  (Other versions doesn’t support this tool)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  For details, please refer to the information of Microsoft Corp. web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452600" y="2778120"/>
            <a:ext cx="621036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0200" indent="-3427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How to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452600" y="3735360"/>
            <a:ext cx="621036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0200" indent="-3427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How to 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2" descr=""/>
          <p:cNvPicPr/>
          <p:nvPr/>
        </p:nvPicPr>
        <p:blipFill>
          <a:blip r:embed="rId1"/>
          <a:stretch/>
        </p:blipFill>
        <p:spPr>
          <a:xfrm>
            <a:off x="5587920" y="1154160"/>
            <a:ext cx="2914560" cy="2206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1" descr=""/>
          <p:cNvPicPr/>
          <p:nvPr/>
        </p:nvPicPr>
        <p:blipFill>
          <a:blip r:embed="rId2"/>
          <a:stretch/>
        </p:blipFill>
        <p:spPr>
          <a:xfrm>
            <a:off x="463680" y="4102200"/>
            <a:ext cx="2950920" cy="2227320"/>
          </a:xfrm>
          <a:prstGeom prst="rect">
            <a:avLst/>
          </a:prstGeom>
          <a:ln w="0">
            <a:noFill/>
          </a:ln>
        </p:spPr>
      </p:pic>
      <p:sp>
        <p:nvSpPr>
          <p:cNvPr id="104" name="スライド番号プレースホルダー 3"/>
          <p:cNvSpPr/>
          <p:nvPr/>
        </p:nvSpPr>
        <p:spPr>
          <a:xfrm>
            <a:off x="6743880" y="6559560"/>
            <a:ext cx="2133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624D-6CD0-4EDA-BEF0-2B63321AF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フッター プレースホルダー 4"/>
          <p:cNvSpPr/>
          <p:nvPr/>
        </p:nvSpPr>
        <p:spPr>
          <a:xfrm>
            <a:off x="266760" y="6572160"/>
            <a:ext cx="5626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Panasonic System Networks Co., Ltd.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How to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147960" y="622440"/>
            <a:ext cx="366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Execute the “setupVx_x_x_x.ex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43640" y="3632040"/>
            <a:ext cx="30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Select a Destination Fo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5365080" y="622440"/>
            <a:ext cx="28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Complete the 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グループ化 1"/>
          <p:cNvGrpSpPr/>
          <p:nvPr/>
        </p:nvGrpSpPr>
        <p:grpSpPr>
          <a:xfrm>
            <a:off x="501480" y="1211400"/>
            <a:ext cx="2951280" cy="2239920"/>
            <a:chOff x="501480" y="1211400"/>
            <a:chExt cx="2951280" cy="2239920"/>
          </a:xfrm>
        </p:grpSpPr>
        <p:pic>
          <p:nvPicPr>
            <p:cNvPr id="111" name="Picture 20" descr=""/>
            <p:cNvPicPr/>
            <p:nvPr/>
          </p:nvPicPr>
          <p:blipFill>
            <a:blip r:embed="rId3"/>
            <a:stretch/>
          </p:blipFill>
          <p:spPr>
            <a:xfrm>
              <a:off x="501480" y="1211400"/>
              <a:ext cx="2951280" cy="22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Rectangle 13"/>
            <p:cNvSpPr/>
            <p:nvPr/>
          </p:nvSpPr>
          <p:spPr>
            <a:xfrm>
              <a:off x="2275200" y="3214080"/>
              <a:ext cx="581040" cy="2095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16"/>
          <p:cNvSpPr/>
          <p:nvPr/>
        </p:nvSpPr>
        <p:spPr>
          <a:xfrm>
            <a:off x="2784600" y="4711680"/>
            <a:ext cx="581040" cy="208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2257560" y="6081840"/>
            <a:ext cx="581040" cy="209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7353360" y="3127320"/>
            <a:ext cx="581040" cy="209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スライド番号プレースホルダー 3"/>
          <p:cNvSpPr/>
          <p:nvPr/>
        </p:nvSpPr>
        <p:spPr>
          <a:xfrm>
            <a:off x="6743880" y="6559560"/>
            <a:ext cx="2133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4BC7-BFA4-4A09-8C68-9208254C0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フッター プレースホルダー 4"/>
          <p:cNvSpPr/>
          <p:nvPr/>
        </p:nvSpPr>
        <p:spPr>
          <a:xfrm>
            <a:off x="266760" y="6572160"/>
            <a:ext cx="5626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Panasonic System Networks Co., Ltd.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How to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239760" y="801720"/>
            <a:ext cx="7900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Click “Launch cfg_checktool.exe” on the deskto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Another metho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Executable file is stored in the following file fo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:¥Program Files¥SIP-Phone_cfgchecktool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“cfg_checktool.exe” in above fol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985680" y="2682720"/>
            <a:ext cx="421956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5" descr=""/>
          <p:cNvPicPr/>
          <p:nvPr/>
        </p:nvPicPr>
        <p:blipFill>
          <a:blip r:embed="rId1"/>
          <a:stretch/>
        </p:blipFill>
        <p:spPr>
          <a:xfrm>
            <a:off x="576360" y="2273400"/>
            <a:ext cx="4878360" cy="3009960"/>
          </a:xfrm>
          <a:prstGeom prst="rect">
            <a:avLst/>
          </a:prstGeom>
          <a:ln w="0">
            <a:noFill/>
          </a:ln>
        </p:spPr>
      </p:pic>
      <p:sp>
        <p:nvSpPr>
          <p:cNvPr id="122" name="スライド番号プレースホルダー 3"/>
          <p:cNvSpPr/>
          <p:nvPr/>
        </p:nvSpPr>
        <p:spPr>
          <a:xfrm>
            <a:off x="6743880" y="6559560"/>
            <a:ext cx="2133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706E-61E1-4D19-806E-6FC5FEFB9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フッター プレースホルダー 4"/>
          <p:cNvSpPr/>
          <p:nvPr/>
        </p:nvSpPr>
        <p:spPr>
          <a:xfrm>
            <a:off x="266760" y="6572160"/>
            <a:ext cx="5626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Panasonic System Networks Co., Ltd.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How to Check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241200" y="803160"/>
            <a:ext cx="790596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Select th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Input the configuration file name directly 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“File open” and select the configuration file from file fo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Click “Start checking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5754600" y="2301840"/>
            <a:ext cx="2739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Selectabl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- KX-TGP600 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- KX-HDV1xx 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- KX-HDV230 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- KX-HDV330 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5302080" y="4500720"/>
            <a:ext cx="1654200" cy="337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ss the ch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609480" y="5321160"/>
            <a:ext cx="4600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If you want to save the result, check “Save the check result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*You can not select the firmware version. (It is backward compatible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"/>
          <p:cNvSpPr/>
          <p:nvPr/>
        </p:nvSpPr>
        <p:spPr>
          <a:xfrm>
            <a:off x="5038560" y="4824360"/>
            <a:ext cx="1116000" cy="689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1898640" y="2851200"/>
            <a:ext cx="3328920" cy="279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866880" y="4032360"/>
            <a:ext cx="4360680" cy="93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7" descr=""/>
          <p:cNvPicPr/>
          <p:nvPr/>
        </p:nvPicPr>
        <p:blipFill>
          <a:blip r:embed="rId2"/>
          <a:stretch/>
        </p:blipFill>
        <p:spPr>
          <a:xfrm>
            <a:off x="6154560" y="4968720"/>
            <a:ext cx="1619280" cy="1132200"/>
          </a:xfrm>
          <a:prstGeom prst="rect">
            <a:avLst/>
          </a:prstGeom>
          <a:ln w="0">
            <a:noFill/>
          </a:ln>
        </p:spPr>
      </p:pic>
      <p:sp>
        <p:nvSpPr>
          <p:cNvPr id="133" name="Line 16"/>
          <p:cNvSpPr/>
          <p:nvPr/>
        </p:nvSpPr>
        <p:spPr>
          <a:xfrm flipV="1">
            <a:off x="5227560" y="2531880"/>
            <a:ext cx="558720" cy="441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609480" y="5056200"/>
            <a:ext cx="1289160" cy="227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2" descr=""/>
          <p:cNvPicPr/>
          <p:nvPr/>
        </p:nvPicPr>
        <p:blipFill>
          <a:blip r:embed="rId1"/>
          <a:stretch/>
        </p:blipFill>
        <p:spPr>
          <a:xfrm>
            <a:off x="942840" y="3284640"/>
            <a:ext cx="3915000" cy="27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スライド番号プレースホルダー 3"/>
          <p:cNvSpPr/>
          <p:nvPr/>
        </p:nvSpPr>
        <p:spPr>
          <a:xfrm>
            <a:off x="6743880" y="6559560"/>
            <a:ext cx="2133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A0A5-BB5A-446D-A9E6-BDFA986D1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フッター プレースホルダー 4"/>
          <p:cNvSpPr/>
          <p:nvPr/>
        </p:nvSpPr>
        <p:spPr>
          <a:xfrm>
            <a:off x="266760" y="6572160"/>
            <a:ext cx="5626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Panasonic System Networks Co., Ltd.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How to Check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279360" y="546120"/>
            <a:ext cx="2149560" cy="337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 Pass the ch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457200" y="89856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errors line is displayed. (The checker shows only error line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228600" y="4307040"/>
            <a:ext cx="711360" cy="261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Arial"/>
              </a:rPr>
              <a:t>Line 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231840" y="4613400"/>
            <a:ext cx="711000" cy="261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Arial"/>
              </a:rPr>
              <a:t>Line 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4857840" y="4255920"/>
            <a:ext cx="3016080" cy="261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ne 8 :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“Space” is including in the valu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4861080" y="4641840"/>
            <a:ext cx="3016080" cy="261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ne 9 :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“Line feed” is miss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0"/>
          <p:cNvSpPr/>
          <p:nvPr/>
        </p:nvSpPr>
        <p:spPr>
          <a:xfrm>
            <a:off x="1943280" y="4357800"/>
            <a:ext cx="85680" cy="16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1"/>
          <p:cNvSpPr/>
          <p:nvPr/>
        </p:nvSpPr>
        <p:spPr>
          <a:xfrm>
            <a:off x="2492280" y="4641840"/>
            <a:ext cx="1886040" cy="190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0" descr=""/>
          <p:cNvPicPr/>
          <p:nvPr/>
        </p:nvPicPr>
        <p:blipFill>
          <a:blip r:embed="rId2"/>
          <a:stretch/>
        </p:blipFill>
        <p:spPr>
          <a:xfrm>
            <a:off x="606600" y="1235160"/>
            <a:ext cx="509400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1" descr=""/>
          <p:cNvPicPr/>
          <p:nvPr/>
        </p:nvPicPr>
        <p:blipFill>
          <a:blip r:embed="rId1"/>
          <a:stretch/>
        </p:blipFill>
        <p:spPr>
          <a:xfrm>
            <a:off x="905040" y="1806480"/>
            <a:ext cx="3581280" cy="265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9" name="スライド番号プレースホルダー 3"/>
          <p:cNvSpPr/>
          <p:nvPr/>
        </p:nvSpPr>
        <p:spPr>
          <a:xfrm>
            <a:off x="6743880" y="6559560"/>
            <a:ext cx="2133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6F37-F052-4C80-89C6-7FBA31784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フッター プレースホルダー 4"/>
          <p:cNvSpPr/>
          <p:nvPr/>
        </p:nvSpPr>
        <p:spPr>
          <a:xfrm>
            <a:off x="266760" y="6572160"/>
            <a:ext cx="5626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Panasonic System Networks Co., Ltd.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How to Check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457200" y="898560"/>
            <a:ext cx="805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 the configuration file was modified the following, it passed the check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1820880" y="3046320"/>
            <a:ext cx="271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863640" y="3489480"/>
            <a:ext cx="1577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7" descr=""/>
          <p:cNvPicPr/>
          <p:nvPr/>
        </p:nvPicPr>
        <p:blipFill>
          <a:blip r:embed="rId2"/>
          <a:stretch/>
        </p:blipFill>
        <p:spPr>
          <a:xfrm>
            <a:off x="5029200" y="1806480"/>
            <a:ext cx="161928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永野</cp:lastModifiedBy>
  <dcterms:modified xsi:type="dcterms:W3CDTF">2016-02-03T07:45:54Z</dcterms:modified>
  <cp:revision>1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